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9FB-1619-4488-9E69-DEB9279E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9DE-8F3A-46AE-BBE3-6530BCF8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BBB-0327-451B-873E-45EF765F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C0C-E25F-4232-B171-18B6BE49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0B9-4B8E-4E6A-9D94-B5AC5D01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8EA-3BD8-48C4-AAA4-C680B55A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C21-DB72-4183-BB50-1C1F505D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4B9-C59C-443A-8EFF-7AA9C407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990-76BC-478A-8B0F-C2AC0155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25C-A4EF-41FD-9951-E1DB7829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FA3-2533-4092-832F-7476D92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E80-A8E4-4A00-AA90-7BB7E377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D9B8-0841-4DC4-A2FB-98A0DE890C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02904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شتمل على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60948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 (لاحظ حرف العلة قبلها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- Differen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1430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um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di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travell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kilome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lab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refu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colou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avou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centimet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en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ub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ur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fl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e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ho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4-04T04:47:35Z</dcterms:modified>
  <cp:revision>7</cp:revision>
  <dc:subject/>
  <dc:title>عرض تقديمي من PowerPoint</dc:title>
</cp:coreProperties>
</file>